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75261"/>
        <c:axId val="23087893"/>
      </c:barChart>
      <c:catAx>
        <c:axId val="72775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87893"/>
        <c:crosses val="autoZero"/>
        <c:auto val="1"/>
        <c:lblAlgn val="ctr"/>
        <c:lblOffset val="100"/>
        <c:noMultiLvlLbl val="0"/>
      </c:catAx>
      <c:valAx>
        <c:axId val="23087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5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EED-D258-4D40-A534-35A1561D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AC7-2E47-4C00-A8AA-0B397891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8163-AA07-4A3E-9BB2-54F7CE15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181-1E7E-4B7A-AAB0-4DA94149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024-0268-40BA-B808-6D59AA8B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49B-6AD2-4E3C-BC2D-85F812E4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F37-1DB8-4857-883B-ADFCED5D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E5B-3414-4CAB-99BF-41AF4BD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D003-B7E3-4575-8135-1351C0DD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C2B-0409-4229-B0CA-D31C71F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39C-BE07-44E5-80D6-AFB6F44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787-3E7E-4082-AC8A-FD36137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130DC-3D7D-4879-BBB0-8119E9775B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