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31667"/>
        <c:axId val="99187774"/>
      </c:barChart>
      <c:catAx>
        <c:axId val="51431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87774"/>
        <c:crosses val="autoZero"/>
        <c:auto val="1"/>
        <c:lblAlgn val="ctr"/>
        <c:lblOffset val="100"/>
        <c:noMultiLvlLbl val="0"/>
      </c:catAx>
      <c:valAx>
        <c:axId val="99187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31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8EE-592F-4A4A-8123-D2E8C000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E56-DC93-4534-8347-94085011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23B-CA1E-4ECA-B043-7961DDEA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D50-4D0C-4951-A651-D4E238A9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532-DA9A-4AD8-9FFF-CC417382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EE8-87B4-4029-8405-94790A2E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568-B246-4D7B-9F86-A97D2F18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DB8-592C-421B-BAE3-B669501B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E8D-BC72-4476-8267-B11E32BF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6CD-08B5-4AC5-AF28-1D99F3FA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D9F-1CBF-44C0-95D7-936F802D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2CD-100F-49ED-895C-4C043EB7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502A4-FC7B-4F71-AE42-47B3BF6C32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